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ADAE4-7188-4C8C-A715-C56E50570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8F560-892E-4161-AC4B-AEE433EDA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2DDCF-2A99-4D84-8116-AAF8B3DF9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95F8B-62D0-4BCD-AD7A-A23DC1DDD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135A7B-5C76-4A56-99E5-6755E147E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3D05B-953A-458C-83C0-78CBC3B5F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002D4-4A17-4C58-ABD6-1BD8059D6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0ECAF-C887-4F2D-97A0-5099E3431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2F885-A99B-4FA7-BD16-1C5EF1252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8EEE8-CA33-4CBA-8C1B-80FD19399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29433-299E-4D07-B332-A0802FF72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71F87-6F21-4A63-9F52-8D3A561DF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912CC-9695-4CDF-A890-473758819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95398-1EF7-45EE-9B09-41E31BE29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683F8-49EA-4BB8-A1D6-CA45576F4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75EEC7-B9B2-4467-8F55-F9B409171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6993EF-F093-4593-8A24-3915159A7C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8BEAC-3159-4634-A52E-35C72401E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7B0E7-734D-4A70-BE3E-C64B1CE46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A230E-3AFD-4D81-BF52-CE03CBB9F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35530-2726-4A5F-B01E-B38DED7EE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B4E73-41DE-4D9B-B651-04E6813D5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88EA9-3B2E-4AD7-B17F-7A704B99E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4EC6D-2D00-4086-9D29-AF0C4E933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48627a"/>
              </a:gs>
              <a:gs pos="100000">
                <a:srgbClr val="53718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371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97cf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6D79-500D-4E3A-A5CC-A614ACA76B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14F2-A9D4-48A2-B666-1C214022E6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3718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97cf2"/>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cc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55640" y="1341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İLKÖĞRETİM OKULU MÜDÜRLERİNİN</a:t>
            </a:r>
            <a:br>
              <a:rPr sz="2400"/>
            </a:br>
            <a:r>
              <a:rPr b="1" lang="en-US" sz="2400" spc="-1" strike="noStrike">
                <a:solidFill>
                  <a:srgbClr val="ccecff"/>
                </a:solidFill>
                <a:latin typeface="Arial"/>
              </a:rPr>
              <a:t>VİZYONER LİDERLİK ÖZELLİKLERİNE</a:t>
            </a:r>
            <a:br>
              <a:rPr sz="2400"/>
            </a:br>
            <a:r>
              <a:rPr b="1" lang="en-US" sz="2400" spc="-1" strike="noStrike">
                <a:solidFill>
                  <a:srgbClr val="ccecff"/>
                </a:solidFill>
                <a:latin typeface="Arial"/>
              </a:rPr>
              <a:t>SAHİP OLMALARI İLE</a:t>
            </a:r>
            <a:br>
              <a:rPr sz="2400"/>
            </a:br>
            <a:r>
              <a:rPr b="1" lang="en-US" sz="2400" spc="-1" strike="noStrike">
                <a:solidFill>
                  <a:srgbClr val="ccecff"/>
                </a:solidFill>
                <a:latin typeface="Arial"/>
              </a:rPr>
              <a:t>ÖĞRETMENLERİN ÖRGÜTSEL</a:t>
            </a:r>
            <a:br>
              <a:rPr sz="2400"/>
            </a:br>
            <a:r>
              <a:rPr b="1" lang="en-US" sz="2400" spc="-1" strike="noStrike">
                <a:solidFill>
                  <a:srgbClr val="ccecff"/>
                </a:solidFill>
                <a:latin typeface="Arial"/>
              </a:rPr>
              <a:t>ADANMALARI ARASINDAKİ İLİŞKİ</a:t>
            </a:r>
            <a:endParaRPr b="0" lang="en-US" sz="2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ma BABİL</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kişehir Osmangazi Üniversitesi</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syal Bilimler Enstitüsü</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ğitim Bilimleri Anabilim Dalı</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ğitim Yönetimi, Teftişi, Planlaması ve Ekonomisi Bilim Dalı</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ÜKSEK LİSANS TEZİ</a:t>
            </a:r>
            <a:endParaRPr b="0" lang="en-US" sz="18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skişehir</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ğustos, 2009</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RAŞTIRMA MODELİ</a:t>
            </a: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 araştırmada, tarama modellerinden tekil ve ilişkisel tarama modelleri kullanılmıştır. Tarama modelleri, geçmişte ya da halen var olan bir durumu var olduğu şekliyle betimlemeyi amaçlayan araştırma yaklaşımlarıdı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VREN</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aştırmanın evrenini, 2008-2009 öğretim yılında Eskişehir il merkezindeki 122 resmi ilköğretim okulunda görev yapan 3061 ilköğretim öğretmeni oluşturmaktadı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9528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ÖRNEKLEM</a:t>
            </a:r>
            <a:endParaRPr b="0" lang="en-US" sz="4400" spc="-1" strike="noStrike">
              <a:solidFill>
                <a:srgbClr val="ccecff"/>
              </a:solidFill>
              <a:latin typeface="Arial"/>
            </a:endParaRPr>
          </a:p>
        </p:txBody>
      </p:sp>
      <p:sp>
        <p:nvSpPr>
          <p:cNvPr id="234" name="PlaceHolder 2"/>
          <p:cNvSpPr>
            <a:spLocks noGrp="1"/>
          </p:cNvSpPr>
          <p:nvPr>
            <p:ph/>
          </p:nvPr>
        </p:nvSpPr>
        <p:spPr>
          <a:xfrm>
            <a:off x="456840" y="1269720"/>
            <a:ext cx="8435880" cy="532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Araştırmanın örneklemini, 2008- 2009 eğitim öğretim yılında Eskişehir ilindeki ilköğretim okullarından rassal örneklem yoluyla seçilen ilköğretim okullarında çalışan öğretmenler oluşturmaktadır. Örnekleme alınacak okulları belirlemek için, okul isimleri yazılıp bir torbaya konulmuş, iadesiz seçim yöntemiyle, Eskişehir’deki 122 resmi ilköğretim okulunun % 20’sini kapsayacak şekilde 25 ilköğretim okulu belirlenmiştir. 5000 kişilik evrende, % 5 hata düzeyinde, % 95 kesinlik düzeyinde, gerekli örneklem, 356 kişi olarak belirlenmiştir. Bu bağlamda, gerekli örnekleme ulaşmak için, okullara öğretmen mevcutlarına göre 586 anket gönderilmiştir. Bu anketlerden 400 tanesi geri dönmüştür. Bu 400 anket verilerin toplanmasında değerlendirilmeye alınmıştı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VERİLERİN TOPLANMASI</a:t>
            </a:r>
            <a:endParaRPr b="0" lang="en-US"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Araştırmanın belirlenen amacına ulaşması için gerekli olan veriler, “Kişisel Bilgi Formu”, “Vizyoner Liderlik Yeterlikleri Anketi” ve “Okula Adanma Ölçeği” olmak üzere üç bölümden oluşan bir veri toplama aracı ile toplanmıştı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ULGULAR</a:t>
            </a: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u="sng">
                <a:solidFill>
                  <a:srgbClr val="ffffff"/>
                </a:solidFill>
                <a:uFillTx/>
                <a:latin typeface="Arial"/>
              </a:rPr>
              <a:t>Birinci Alt Probleme İlişkin Bulgular</a:t>
            </a:r>
            <a:endParaRPr b="0" lang="en-US" sz="3200" spc="-1" strike="noStrike">
              <a:solidFill>
                <a:srgbClr val="ffffff"/>
              </a:solidFill>
              <a:latin typeface="Arial"/>
            </a:endParaRPr>
          </a:p>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Araştırmanın birinci alt problemi, “İlköğretim okulu müdürleri, öğretmenlerin algılarına göre vizyoner liderlik özelliklerine hangi düzeyde sahiptir?” şeklinde düzenlenmiştir. </a:t>
            </a:r>
            <a:endParaRPr b="0" lang="en-US" sz="3200" spc="-1" strike="noStrike">
              <a:solidFill>
                <a:srgbClr val="ffffff"/>
              </a:solidFill>
              <a:latin typeface="Arial"/>
            </a:endParaRPr>
          </a:p>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Elde edilen sonuca göre okul müdürlerinin vizyoner liderliklerinin orta düzeyde olduğu söylenebili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u="sng">
                <a:solidFill>
                  <a:srgbClr val="ffffff"/>
                </a:solidFill>
                <a:uFillTx/>
                <a:latin typeface="Arial"/>
              </a:rPr>
              <a:t>İkinci Alt Probleme İlişkin Bulgular</a:t>
            </a:r>
            <a:endParaRPr b="0" lang="en-US" sz="3200" spc="-1" strike="noStrike">
              <a:solidFill>
                <a:srgbClr val="ffffff"/>
              </a:solidFill>
              <a:latin typeface="Arial"/>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aştırmanın ikinci alt problemi, “öğretmenlerin algılarına göre, İlköğretim okulu müdürlerinin vizyoner liderlik özelliklerine sahip olma düzeyi ile öğretmenlerin örgütsel adanması arasında anlamlı düzeyde bir ilişki var mıdır?” şeklinde düzenlenmiştir.</a:t>
            </a:r>
            <a:endParaRPr b="0" lang="en-US" sz="2800" spc="-1" strike="noStrike">
              <a:solidFill>
                <a:srgbClr val="ffffff"/>
              </a:solidFill>
              <a:latin typeface="Arial"/>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lişki korelasyon analizine göre belirlenmiştir, elde edilen sonuca göre okul müdürlerinin vizyoner liderlik özelliklerine sahip olma düzeyi ile öğretmenlerin örgütsel adanması arasında anlamlı bir ilişki yoktu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68360" y="691920"/>
            <a:ext cx="8229600" cy="54622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u="sng">
                <a:solidFill>
                  <a:srgbClr val="ffffff"/>
                </a:solidFill>
                <a:uFillTx/>
                <a:latin typeface="Arial"/>
              </a:rPr>
              <a:t>Üçüncü Alt Probleme İlişkin Bulgular</a:t>
            </a:r>
            <a:endParaRPr b="0" lang="en-US" sz="3600" spc="-1" strike="noStrike">
              <a:solidFill>
                <a:srgbClr val="ffffff"/>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aştırmanın üçüncü alt problemi, “ ilköğretim okulu öğretmenlerinin kendi okul müdürlerinin vizyoner liderlik özelliklerine sahip olmasına ilişkin görüşleri, onları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Cinsiyetlerin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Yaşların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Branşların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Mesleki kıdemlerin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Çalıştıkları okuldaki hizmet sürelerine göre anlamlı bir farklılık var mıdır?” şeklinde düzenlenmişti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980640"/>
            <a:ext cx="8507520" cy="532764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Yapılan t-testi sonucuna göre erkek öğretmenlerin okul müdürlerini kadın öğretmenlere göre daha çok vizyoner lider olarak algıladıkları söylenebilir.</a:t>
            </a:r>
            <a:endParaRPr b="0" lang="en-US" sz="3200" spc="-1" strike="noStrike">
              <a:solidFill>
                <a:srgbClr val="ffffff"/>
              </a:solidFill>
              <a:latin typeface="Arial"/>
            </a:endParaRPr>
          </a:p>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Yaş Değişkeni ve Okul Müdürlerinin Vizyoner Liderliklerine İlişkin Varyans Analizi Sonuçlarına göre öğretmenlerin yaşlarına göre okul müdürlerinin vizyoner liderlik özelliklerine ilişkin görüşleri değişmemekted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Öğretmenlerin Branşlarına Göre Okul Müdürlerinin Vizyoner Liderlik Özelliklerine Sahip Olmalarına İlişkin Görüşlerinin Aritmetik Ortalamalarının Karşılaştırılması öğretmenlerin branşlarına göre okul müdürlerinin vizyoner liderlik özelliklerine ilişkin görüşleri değişmemekted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Öğretmenlerin Mesleki Kıdemlerine Göre Okul Müdürlerinin Vizyoner Liderlik Özelliklerine Sahip Olmalarına İlişkin Görüşlerinin varyans analizi sonuçlarına göre öğretmenlerin mesleki kıdemlerine göre okul müdürlerinin vizyoner liderlik özelliklerine ilişkin görüşleri değişmemekted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PROBLEM CÜMLESİ</a:t>
            </a:r>
            <a:br>
              <a:rPr sz="4000"/>
            </a:br>
            <a:endParaRPr b="0" lang="en-US" sz="40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İlköğretim okulu müdürlerinin vizyoner liderlik özellikleri ile öğretmenlerin örgütsel adanmaları arasında bir ilişki var mıdı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Öğretmenlerin Çalıştıkları Okuldaki Hizmet Sürelerine Göre Okul Müdürlerinin Vizyoner Liderlik Özelliklerine Sahip Olmalarına İlişkin Görüşlerinin Ortalamalarının Tek Yönlü Varyans Analizi Sonuçları öğretmenlerin çalıştıkları okuldaki görev süresine göre okul müdürlerinin vizyoner liderlik özelliklerine sahip olmalarına ilişkin görüşleri değişmemektedi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ördüncü Alt Problemine İlişkin Bulgular</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raştırmanın dördüncü alt problemi, “ilköğretim okullarındaki öğretmenlerin örgütsel adanmalarına ilişkin görüşleri onların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insiyetleri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aşların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Branşların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Mesleki Kıdemleri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Çalıştıkları okuldaki hizmet sürelerine göre, anlamlı farklılık göstermekte midir?” şeklinde düzenlenmişti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Öğretmenlerin Cinsiyetlerine göre Okula Adanmalarına İlişkin Görüşlerinin Aritmetik Ortalamalarının Karşılaştırılması sonucu</a:t>
            </a:r>
            <a:r>
              <a:rPr b="1" lang="tr-TR" sz="3200" spc="-1" strike="noStrike">
                <a:solidFill>
                  <a:srgbClr val="ffffff"/>
                </a:solidFill>
                <a:latin typeface="Arial"/>
              </a:rPr>
              <a:t> </a:t>
            </a:r>
            <a:r>
              <a:rPr b="0" lang="tr-TR" sz="3200" spc="-1" strike="noStrike">
                <a:solidFill>
                  <a:srgbClr val="ffffff"/>
                </a:solidFill>
                <a:latin typeface="Arial"/>
              </a:rPr>
              <a:t>kadın ve erkek öğretmenlerin örgütsel adanma düzeyleri birbirine benzerdir.</a:t>
            </a:r>
            <a:endParaRPr b="0" lang="en-US" sz="3200" spc="-1" strike="noStrike">
              <a:solidFill>
                <a:srgbClr val="ffffff"/>
              </a:solidFill>
              <a:latin typeface="Arial"/>
            </a:endParaRPr>
          </a:p>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Öğretmenlerin Yaşlarına Göre Örgütsel Adanmalarına İlişkin Görüşlerinin Ortalamalarının Tek Yönlü Varyans Analizi Sonuçlarına göre öğretmenlerin yaşlarına göre örgütsel adanmaları değişmemekted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Öğretmenlerin Branşlarına Göre Örgütsel Adanmalarına İlişkin Görüşlerinin Aritmetik Ortalamalarının Karşılaştırılması (t- testi) sonucu öğretmenlerin branşlarına göre örgütsel adanmalarına ilişkin görüşleri değişmemektedi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ğretmenlerin Mesleki Kıdemlerine Göre Örgütsel Adanmalarına İlişkin Görüşlerinin Ortalamalarının Tek Yönlü Varyans Analizi Sonuçlarına göre öğretmenlerin mesleki kıdemlerine göre örgütsel adanmalarının değişmediği bulunmuştur.</a:t>
            </a:r>
            <a:endParaRPr b="0" lang="en-US" sz="2800" spc="-1" strike="noStrike">
              <a:solidFill>
                <a:srgbClr val="ffffff"/>
              </a:solidFill>
              <a:latin typeface="Arial"/>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ğretmenlerin Çalıştıkları Okuldaki Görev Sürelerine Göre Örgütsel Adanmalarına İlişkin Görüşlerinin Ortalamalarının Tek Yönlü Varyans Analizi Sonuçları öğretmenlerin çalıştıkları okuldaki görev sürelerine göre örgütsel adanmalarının değişmediğini göstermektedi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ÖNERİLER</a:t>
            </a:r>
            <a:endParaRPr b="0" lang="en-US" sz="4400" spc="-1" strike="noStrike">
              <a:solidFill>
                <a:srgbClr val="ccecff"/>
              </a:solidFill>
              <a:latin typeface="Arial"/>
            </a:endParaRPr>
          </a:p>
        </p:txBody>
      </p:sp>
      <p:sp>
        <p:nvSpPr>
          <p:cNvPr id="254" name="PlaceHolder 2"/>
          <p:cNvSpPr>
            <a:spLocks noGrp="1"/>
          </p:cNvSpPr>
          <p:nvPr>
            <p:ph/>
          </p:nvPr>
        </p:nvSpPr>
        <p:spPr>
          <a:xfrm>
            <a:off x="395280" y="980640"/>
            <a:ext cx="8507520" cy="492444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Okul müdürlerinin mesleki eğitimleri, çağdaş standartlara kavuşturulmalıdır. Lisansüstü programlarla ve hizmet içi eğitim çalışmaları ile okul müdürlerinin liderlik ve vizyoner liderlik alanında kendilerini geliştirmeleri sağlanmalıdır.</a:t>
            </a:r>
            <a:endParaRPr b="0" lang="en-US" sz="2800" spc="-1" strike="noStrike">
              <a:solidFill>
                <a:srgbClr val="ffffff"/>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ğretmenlerin hizmet içi eğitim programlarıyla, eğitim bilimleri alanındaki bilgilerini yenilemeleri ve alandaki gelişmelerle ilgili bilgi sahibi olmaları sağlanmalıdır.</a:t>
            </a:r>
            <a:endParaRPr b="0" lang="en-US" sz="2800" spc="-1" strike="noStrike">
              <a:solidFill>
                <a:srgbClr val="ffffff"/>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Okul müdürleri, vizyon geliştirme sürecinde öğretmenlerin de fikirlerini almalı ve katılımlarını sağlamalıdı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zırlay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rzen MÜZDECİOĞL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522601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LT PROBLEMLER</a:t>
            </a:r>
            <a:endParaRPr b="0" lang="en-US" sz="40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1.İlköğretim okulu müdürleri, öğretmenlerin algılarına göre vizyoner liderlik özelliklerine hangi düzeyde sahipti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2.Öğretmenlerin algılarına göre, ilköğretim okulu müdürlerinin vizyoner liderlik özelliklerine sahip olma düzeyi ile öğretmenlerin örgütsel adanması arasında anlamlı düzeyde bir ilişki var mıdı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3.İlköğretim okulu müdürlerinin vizyoner liderlik özelliklerine sahip olma düzeyine ilişkin, öğretmen görüşleri arasınd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Cinsiye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Yaş</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c)Branş</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Mesleki kıde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Çalıştıkları okuldaki hizmet süresi, değişkenine göre anlamlı düzeyde bir farklılık var mıdı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Öğretmenlerin görüşlerine göre, öğretmenlerin örgütsel adanma düzeyleri arasınd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Cinsiye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Yaş</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Branş</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Mesleki Kıde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Çalıştıkları okuldaki hizmet süresi ,değişkenine göre anlamlı düzeyde bir farklılık var mıdı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RAŞTIRMANIN AMACI</a:t>
            </a: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Araştırmanın amacı, ilköğretim okullarında çalışan okul müdürlerinin vizyoner liderlik özelliklerine sahip olma düzeyi ile, vizyoner liderliğin öğretmenin örgütsel adanmışlığı ile arasındaki ilişkinin ilköğretim öğretmenlerinin görüşleri alınarak incelenmesid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RAŞTIRMANIN ÖNEMİ</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araştırma ile elde edilecek sonuçlar aşağıdaki yönlerden önem taşımaktadı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Vizyoner liderlik ile ilgili, okul müdürlerinin ve öğretmenlerin bir farkındalık geliştirmesi ve vizyonun okul için öneminin farkına varmalarının sağlanması,</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Okullarda ortak bir vizyon geliştirilmesi ve amaç birliğinin sağlanmasının örgütsel adanma üzerindeki rolünü ortaya konması,</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3.Eğitim Bilimleri alanında sınırlı sayıda çalışma yapılan vizyoner liderlikle ilgili araştırmalara bir katkı getirmesi açısından bu çalışma önemlidi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YILTILAR</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a:t>
            </a:r>
            <a:r>
              <a:rPr b="0" lang="en-US" sz="3200" spc="-1" strike="noStrike">
                <a:solidFill>
                  <a:srgbClr val="ffffff"/>
                </a:solidFill>
                <a:latin typeface="Arial"/>
              </a:rPr>
              <a:t>Öğretmenlerin anketteki sorulara verdikleri cevaplar içten ve doğrudu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a:t>
            </a:r>
            <a:r>
              <a:rPr b="0" lang="en-US" sz="3200" spc="-1" strike="noStrike">
                <a:solidFill>
                  <a:srgbClr val="ffffff"/>
                </a:solidFill>
                <a:latin typeface="Arial"/>
              </a:rPr>
              <a:t>Araştırmada kullanılan araç ve teknikler, geçerli, güvenilir ve araştırmanın amacına uygundu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NIRLILIKLAR</a:t>
            </a:r>
            <a:endParaRPr b="0" lang="en-US" sz="44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raştırma, 2008-2009 Eğitim –Öğretim yılında Eskişehir ili sınırlarında resmi ilköğretim okullarında görev yapan ilköğretim öğretmenlerinin görüşleri ile sınırlıdı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raştırmada elde edilen veriler, araştırmada kullanılan veri toplama aracı ile sınırlıdı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30T18:09:51Z</dcterms:created>
  <dc:creator>ferzen</dc:creator>
  <dc:description/>
  <dc:language>en-US</dc:language>
  <cp:lastModifiedBy>ferzen</cp:lastModifiedBy>
  <dcterms:modified xsi:type="dcterms:W3CDTF">2011-01-02T17:37:14Z</dcterms:modified>
  <cp:revision>11</cp:revision>
  <dc:subject/>
  <dc:title>Slayt 1</dc:title>
</cp:coreProperties>
</file>